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5E2-FAEF-448B-BBE5-8C5E4F77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07B-5B89-4F00-A513-8A5B4309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09A-78C6-401E-8008-B59386D9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34A-8618-4E33-B63D-180DF7F5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4B59-DB60-4FC7-B362-EFF1F4B3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5E94-FCC4-4FFD-95F6-C73F53A1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9434-2D10-409D-AEBA-3091A55B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5049-50FC-4DF8-85B2-BFBD191C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1EBD-5938-4D9A-9FEF-44ACE618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7AC4-80DA-4FA6-A179-040F3CDE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DC92-419C-4899-9AF2-BD7DFB28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AF5-A527-4C47-9BCB-57E1B759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E1D0-815F-4060-9C4A-4E926714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515E-B4E5-49D0-A66F-2E43C32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3C75-3942-40E2-8449-95DE20E8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9574-75BB-43A1-9C20-FE7D773E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704C-EAF9-4BF5-BE1B-CA6E6ACC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3D5-F87A-4BCE-8D82-2020F8CB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3C8-FD0A-4148-9DCD-101F254F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2C8-DFB0-4A6D-A31F-12DCAD54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89A-DB23-4DC5-A08E-E880127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F2F-7DFF-4126-92F5-A17F10D2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20F-748E-47E6-AAD1-DBFF76B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C4A-6013-40FE-8652-A04E2504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5840-6D7A-4C02-AB05-2D7BF88B0A3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8B56-62F8-4CE2-8891-23261D5C767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file:///Act%20V%20cause%20effect.jpg" TargetMode="External"/><Relationship Id="rId4" Type="http://schemas.openxmlformats.org/officeDocument/2006/relationships/hyperlink" Target="file:///Act%20V%20tragedy.jpg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file:///Poison%20Tree.%20Earthly%20Greatness.doc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thislife.org/Radio_Episode.aspx?episode=218" TargetMode="External"/><Relationship Id="rId7" Type="http://schemas.openxmlformats.org/officeDocument/2006/relationships/hyperlink" Target="http://www.thislife.org/Radio_Episode.aspx?episode=218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ww.thislife.org/Radio_Episode.aspx?episode=218" TargetMode="External"/><Relationship Id="rId4" Type="http://schemas.openxmlformats.org/officeDocument/2006/relationships/hyperlink" Target="http://www.thislife.org/Radio_Episode.aspx?episode=218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5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ent Goals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stribute Act V guided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py two charts onto back of guided 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ad V.i – V.i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rite accompanying journ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178-02E6-49B3-92C0-CB3D9AD58BA4}" type="slidenum">
              <a:t>1</a:t>
            </a:fld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V.iv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ew &amp; Ass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at is the difference between making enemies and making friend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are enemies mad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does this link to the action in V.iv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4648320" y="2421000"/>
            <a:ext cx="3809880" cy="35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CCD-455E-4819-8DAC-D75E1AECFBCD}" type="slidenum">
              <a:t>10</a:t>
            </a:fld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V.v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ew &amp; Assess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s it better to do bad things with good intenti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s it better to do good things with bad intentions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does this link to the action in V.v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114-0D32-4775-8CD4-29C40ABB2A0A}" type="slidenum">
              <a:t>11</a:t>
            </a:fld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7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ent Goals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mplete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3"/>
              </a:rPr>
              <a:t>“Cause &amp; Effect”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and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4"/>
              </a:rPr>
              <a:t>“Tragedy”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assignme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scussion: “Tragedy of ???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nish Marlon Brando DV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767-EDD4-4A50-B7FC-7B509701B0B2}" type="slidenum">
              <a:t>12</a:t>
            </a:fld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gedy of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Footlight MT Light"/>
                <a:ea typeface="Times New Roman"/>
              </a:rPr>
              <a:t>Who is the protagonist/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Footlight MT Light"/>
                <a:ea typeface="Times New Roman"/>
              </a:rPr>
              <a:t>tragic hero</a:t>
            </a:r>
            <a:r>
              <a:rPr b="0" lang="en-US" sz="3200" spc="-1" strike="noStrike">
                <a:solidFill>
                  <a:srgbClr val="333333"/>
                </a:solidFill>
                <a:latin typeface="Footlight MT Light"/>
                <a:ea typeface="Times New Roman"/>
              </a:rPr>
              <a:t> in </a:t>
            </a:r>
            <a:r>
              <a:rPr b="0" i="1" lang="en-US" sz="3200" spc="-1" strike="noStrike">
                <a:solidFill>
                  <a:srgbClr val="333333"/>
                </a:solidFill>
                <a:latin typeface="Footlight MT Light"/>
                <a:ea typeface="Times New Roman"/>
              </a:rPr>
              <a:t>The Tragedy of Julius Caesar</a:t>
            </a:r>
            <a:r>
              <a:rPr b="0" lang="en-US" sz="3200" spc="-1" strike="noStrike">
                <a:solidFill>
                  <a:srgbClr val="333333"/>
                </a:solidFill>
                <a:latin typeface="Footlight MT Light"/>
                <a:ea typeface="Times New Roman"/>
              </a:rPr>
              <a:t>?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Footlight MT Light"/>
                <a:ea typeface="Times New Roman"/>
              </a:rPr>
              <a:t>What is his/her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Footlight MT Light"/>
                <a:ea typeface="Times New Roman"/>
              </a:rPr>
              <a:t>tragic error</a:t>
            </a:r>
            <a:r>
              <a:rPr b="0" lang="en-US" sz="3200" spc="-1" strike="noStrike">
                <a:solidFill>
                  <a:srgbClr val="333333"/>
                </a:solidFill>
                <a:latin typeface="Footlight MT Light"/>
                <a:ea typeface="Times New Roman"/>
              </a:rPr>
              <a:t>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Footlight MT Light"/>
                <a:ea typeface="Times New Roman"/>
              </a:rPr>
              <a:t>How does he/she perpetuate this error and thereby continue the tragic string of events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Footlight MT Light"/>
                <a:ea typeface="Times New Roman"/>
              </a:rPr>
              <a:t>How is a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Footlight MT Light"/>
                <a:ea typeface="Times New Roman"/>
              </a:rPr>
              <a:t>catharsis</a:t>
            </a:r>
            <a:r>
              <a:rPr b="0" lang="en-US" sz="3200" spc="-1" strike="noStrike">
                <a:solidFill>
                  <a:srgbClr val="333333"/>
                </a:solidFill>
                <a:latin typeface="Footlight MT Light"/>
                <a:ea typeface="Times New Roman"/>
              </a:rPr>
              <a:t>/resolution of the tragedy occur?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1447920" y="1295280"/>
            <a:ext cx="1333440" cy="912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6400800" y="1066680"/>
            <a:ext cx="13334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538-39A9-434B-995B-E525CF168FA0}" type="slidenum">
              <a:t>13</a:t>
            </a:fld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8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ent Goals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Quiz Act 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terary term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hort answ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B35-9314-4EB2-AD20-A074BA6E7228}" type="slidenum">
              <a:t>14</a:t>
            </a:fld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Day 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ent Goals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mplete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3"/>
              </a:rPr>
              <a:t>Caesar poetry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with ques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tional Geographic reading and ques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gin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6"/>
              </a:rPr>
              <a:t>This American Life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7"/>
              </a:rPr>
              <a:t>“Act V”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radio progra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odel note tak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789-38F5-45BD-B89E-B6B4C259A1E6}" type="slidenum">
              <a:t>15</a:t>
            </a:fld>
          </a:p>
        </p:txBody>
      </p:sp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Day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ent Goals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nish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3"/>
              </a:rPr>
              <a:t>This American Life </a:t>
            </a:r>
            <a:r>
              <a:rPr b="0" lang="en-US" sz="2800" spc="-1" strike="noStrike" u="sng">
                <a:solidFill>
                  <a:srgbClr val="969696"/>
                </a:solidFill>
                <a:uFillTx/>
                <a:latin typeface="Times New Roman"/>
                <a:hlinkClick r:id="rId4"/>
              </a:rPr>
              <a:t>“Act V”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radio progra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ote tak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715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ays 21-25: Platform Pizzazz Public Speaking &amp; Project Presenta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8CD-CCBF-4698-913B-148489A5FAB0}" type="slidenum">
              <a:t>16</a:t>
            </a:fld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 and Effect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981080"/>
            <a:ext cx="1828800" cy="99072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aesar is killed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2209680"/>
            <a:ext cx="1828800" cy="99072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362320"/>
            <a:ext cx="1828800" cy="99036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62720" y="3657600"/>
            <a:ext cx="1828800" cy="99072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4419720"/>
            <a:ext cx="1828800" cy="99036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581280"/>
            <a:ext cx="1828800" cy="99072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5181480"/>
            <a:ext cx="1828800" cy="99072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029200"/>
            <a:ext cx="1828800" cy="99072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99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27432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99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5486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99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57913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99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29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388620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solidFill>
            <a:srgbClr val="99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4191120"/>
            <a:ext cx="304920" cy="228600"/>
          </a:xfrm>
          <a:prstGeom prst="leftArrow">
            <a:avLst>
              <a:gd name="adj1" fmla="val 50000"/>
              <a:gd name="adj2" fmla="val 33346"/>
            </a:avLst>
          </a:prstGeom>
          <a:solidFill>
            <a:srgbClr val="99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5334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99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617220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dd effect bubbles to track action through the resolution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6AF-793A-49BE-8E97-A831EACB3DD7}" type="slidenum">
              <a:t>2</a:t>
            </a:fld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gedy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85800" y="2133720"/>
          <a:ext cx="7772400" cy="4233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aesar is assassinated.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ntony &amp; Octavius fight a civil war versus Cassius &amp; Brutus.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assius kills himself, w/ Pindarus’s help, b/c  misunderstanding.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Brutus says, “O Julius Caesar, thou art mighty yet…”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Brutus says, “Farewell good Caesar…I killed not thee with half so good a will.”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Brutus kills himself, with the help of Strato.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ntony says, “This was the noblest Roman of them all…” about Brutus.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838080" y="1676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Statement/Event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Elements -tragedy’s defin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ink back to Aristotle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8A4-866F-48EF-A983-60262E39D0E7}" type="slidenum">
              <a:t>3</a:t>
            </a:fld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5BF-B233-4883-8940-237624D20815}" type="slidenum">
              <a:t>4</a:t>
            </a:fld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V.i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ew &amp; Ass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en and why have you engaged in trash talk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does this link to the action in V.i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990720" y="213372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D50-405B-4B28-8489-FCA2AD7BEB57}" type="slidenum">
              <a:t>5</a:t>
            </a:fld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V.ii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ew &amp; Ass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y is it that giving orders makes us feel powerful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y does it feel so good to have power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does this link to the action in V.ii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5046840" y="2133720"/>
            <a:ext cx="3011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BA7-849A-4EE2-83C1-F26D86B293D8}" type="slidenum">
              <a:t>6</a:t>
            </a:fld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6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ent Goals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ckground information Philipp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ad V.iii – V.iv – V.v (finish the play!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EBA-04A6-4E87-9AD7-2AB122B1952B}" type="slidenum">
              <a:t>7</a:t>
            </a:fld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illipi, Gre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te of the famous battle where the armies of Mark Antony and Octavius met the armies of Julius Ceasar’s assassins in 42BC. The victors spent a fortune on Philippi, granting it the status of Roman Colony, providing us with the impressive ruins, and artifacts which are now in the museum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http://www.greecetravel.com/macedonia/ancientsites.htm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9" name="" descr="Philippi, Macedonia, Greece"/>
          <p:cNvPicPr/>
          <p:nvPr/>
        </p:nvPicPr>
        <p:blipFill>
          <a:blip r:embed="rId1"/>
          <a:stretch/>
        </p:blipFill>
        <p:spPr>
          <a:xfrm>
            <a:off x="5105520" y="3809880"/>
            <a:ext cx="2720880" cy="19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93E-2B37-449F-93C5-8AB575FAC320}" type="slidenum">
              <a:t>8</a:t>
            </a:fld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V.iii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ew &amp; Ass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ave you ever “counted your chickens before they’re hatched?”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did that work out for you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does this link to the action in V.iii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685800" y="2809800"/>
            <a:ext cx="3809880" cy="27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308-BCE1-4963-A2E2-FB9B5BA6E907}" type="slidenum">
              <a:t>9</a:t>
            </a:fld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39:40Z</dcterms:created>
  <dc:creator>edavis</dc:creator>
  <dc:description/>
  <dc:language>en-US</dc:language>
  <cp:lastModifiedBy>edavis</cp:lastModifiedBy>
  <cp:lastPrinted>2008-06-13T19:59:48Z</cp:lastPrinted>
  <dcterms:modified xsi:type="dcterms:W3CDTF">2008-09-17T17:49:03Z</dcterms:modified>
  <cp:revision>344</cp:revision>
  <dc:subject/>
  <dc:title>The Tragedy of Julius Caesar</dc:title>
</cp:coreProperties>
</file>